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598-2335-409F-AE9B-F4F2B8C1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82A-A713-4A67-917E-85C5F7F9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7DA-7A62-4837-A1A2-290A5CDC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E26-4077-4EE3-ACF4-B84FFC44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52D-00EE-4BFF-9A23-8BF23BAC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296-CD92-4730-8E67-EA3EACA8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C4C-8936-48F2-902C-B386DC1A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053-E9C9-4E55-A93B-35DAD2BF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857-3497-4A4A-8A4A-C217FA0D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D7E-ADBF-4296-9B29-353B58D8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0AC-1C4F-4B45-9118-CE32A8C9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CA7-4AA8-43F8-8E02-724A46C6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1410-0A6B-46B3-B7CD-CF3C21C2CFC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50F0-8698-4F51-84DD-9F29BF1BC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Regler for bruk av systemkor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0C1-1C30-43AA-89DE-D2D76894886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E6FA8-2534-422F-A0B8-40DC6DC7F0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Regler for bruk av systemkor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Hovedregel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Det skal alltid brukes systemkor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Par som mangler fullstendig utfylt systemkort tildeles prosedyrestraff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Tillatte systemkort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Deltakerne kan fritt benytte NBF sitt standard systemkort , WBF sine systemkort   eller andre fullstendige kort med minst samme opplysninger på forsiden som NBF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Utfylling av systemkortet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Systemkortet skal være fullstendig utfylt, det skal ha (eller være merket med) rett farge og eventuelle HUK skal være beskrevet på eget brunt vedlegg sammen med et forslag til forsvar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En meldings mulige fordeling skal beskrives ved å angi  grensene for fargelengder, og styrkegrensene skal angis ved Hp-intervall</a:t>
            </a: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Mulige unntaksvise avvik på ett kort eller 2Hp eller mer skal alltid markeres på kortet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89A-1A0B-4340-902F-E02280F9F3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68C50-F877-4587-B95F-3114DE9BB2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sykiske meldinger / Referanselitteratu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Enkelte makkerpar bruker psykiske meldinger eller andre avvik fra systemdeklarasjonen så ofte at de reelt er del av makkeravtalen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Slike makkeravtaler skal føres på systemkortet, og de er underlagt reglene dersom de er HUM eller HUK. 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TL bør tilkalles når det har forekommet psykiske meldinger.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Dersom systemkortet er basert på en mer omfattende systemdeklarasjon,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bok eller lignende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bør referanse til denne skrives på kortet, slik at spørsmål om feil melding/feil forklaring lettere kan utredes.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CB3-B955-4951-B055-9C6FA92CB0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ADFC1-AA6B-425A-88D5-F1508FA01D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orsiden av systemkortet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Alle plikter å  kjenne opplysningene på forsiden av motpartens systemkort. Det skal gi informasjon om: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Grunnsystem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Grandåpningens styrkeintervall, mulige fordelinger samt svarene på 2 trinnet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Hvor langt 2 over 1 er krav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Åpning i minor og senere melding av minor som kan gjøres på trekortsfarg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Betydningen av åpning 2 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Betydningen av åpning 2 rut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Doblingers betydning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Spillkonvensjoner og signal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D85-09C5-440B-9201-384068C14B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BC5E5-BC0D-448E-AFBF-19B18F2070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er om systemkor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orhåndsutfylte systemkor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BF vil forhåndsutfylle et systemkort for et svært enkelt naturlig system.. Dette systemet skal brukes av spillere som ikke har fullstendig utfylt kort, inntil et eget kort er utfyl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Bruk av systemkort under spille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Spillerne har anledning til å studere motpartens systemkort når de er i tur for å melde eller spille, men ikke sitt ege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ersom arrangøren med utdelte kort har fastsatt turneringens system(er), så har spillere lov til å studere også sitt eget systemkort. Det samme gjelder spillere som av turneringsleder er pålagt å spille med forhåndsutfylt kor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Kurssystemkor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ybegynnere med kurssystemkort som er påført navn og utstedelsesdato og er signert av kursets ansvarlige, kan studere sitt eget systemkort under meldingsforløpet i alle turneringer i inntil 1 år fra datoen på korte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9B1-423D-403A-A367-93E76ED3E7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DBD80-40CF-494F-9480-42D6BF0F53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ølgen av avvik fra systemkortets beskrivelse av meldingen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vvik fra systemkortets grenser for styrke og fordeling for en melding, kan være en skjult makkeravtale og er derfor et mulig brudd på reglene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"Strekking av grensene" etter en bridgemessig vurdering er ofte egentlig en endring av systemet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like avvik kan medføre justert score, prosedyrestraff og pålegg om å rette systemkort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ridgemessige vurderinger bør godtas som grun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Når avviket ikke er på mer enn 1 poeng i parets poengsystem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Når  avviket ikke er på mer enn  et kort i en fargelengde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inste fargelengde i åpning eller definerte innhopp skal være rikti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like ”avvik” må ikke brukes til å overskride viktige grenser som f.eks ”en konge eller mer mindre enn en gjennomsnittshånd”, ”kort farge – lang farge”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Et utilsiktet avvik fra systemkortets beskrivelser, f.eks p.g.a feiltelling eller lignende, skal ikke straff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C46-CEB9-4847-AC37-2E7FE035CE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B363D-37DC-4AC9-890A-1C87DDDBD0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Eksempler på reaksjon fra TL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har forekommet et avvik fra poenggrenser, avviket bringer ikke systemet ut av den aktuelle systemkategorien: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Systemkortet skal rettes. Spillet kan bli justert dersom motparten er skadelidende. Prosedyrestraff vurdere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er registrert et avvik som betyr at systemet etter avviket skal plasseres i en annen kategori: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Makkerparet må enten rette systemkategorien eller endre bruken av den aktuelle meldingen. Spillet kan bli justert dersom motparten er skadelidende. Prosedyrestraff tildele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En melding som er deklarert som 11-19 , blir avgitt på en hånd med 9 Hp. Det blir forklart at meldingen unntaksvis kan vise ned till 8 Hp og opp til 21 Hp avhengig av fordeling og kvalitet på de andre kortene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TL pålegger at poeng rettet til 11(8) - 19(21), tildeler prosedyrestraff for ufullstendig systemkort og justerer spillet hvis motparten er skadelidende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0F8-8743-43CC-BAE4-B08D5F6945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8A38D-456E-4DB2-A3FA-A74479BD82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0:17:38Z</dcterms:created>
  <dc:creator>Per Nordland</dc:creator>
  <dc:description/>
  <dc:language>en-US</dc:language>
  <cp:lastModifiedBy>Per Nordland</cp:lastModifiedBy>
  <dcterms:modified xsi:type="dcterms:W3CDTF">2002-03-30T18:07:18Z</dcterms:modified>
  <cp:revision>2</cp:revision>
  <dc:subject/>
  <dc:title>Regler for bruk av systemkort</dc:title>
</cp:coreProperties>
</file>